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000" y="3447360"/>
            <a:ext cx="845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000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9404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19840" y="153684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0040" y="153684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60000" y="344736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19840" y="344736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0040" y="344736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000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04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3447360"/>
            <a:ext cx="845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0000" y="3447360"/>
            <a:ext cx="845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6000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04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9840" y="153684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0040" y="153684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60000" y="344736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9840" y="344736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0040" y="3447360"/>
            <a:ext cx="272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560" y="-3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94040" y="344736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536840"/>
            <a:ext cx="4127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3447360"/>
            <a:ext cx="8458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intel.com/" TargetMode="External"/><Relationship Id="rId8" Type="http://schemas.openxmlformats.org/officeDocument/2006/relationships/hyperlink" Target="http://www.intel.com/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hyperlink" Target="mailto:Kingsum.chow@intel.co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31000" cy="27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82040" y="0"/>
            <a:ext cx="1461960" cy="1335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3240" y="1066680"/>
            <a:ext cx="209520" cy="5791320"/>
          </a:xfrm>
          <a:prstGeom prst="rect">
            <a:avLst/>
          </a:prstGeom>
          <a:solidFill>
            <a:srgbClr val="edb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924680" y="6008760"/>
            <a:ext cx="914400" cy="544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5829480"/>
            <a:ext cx="243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7" name="pixel" descr=""/>
          <p:cNvPicPr/>
          <p:nvPr/>
        </p:nvPicPr>
        <p:blipFill>
          <a:blip r:embed="rId5"/>
          <a:stretch/>
        </p:blipFill>
        <p:spPr>
          <a:xfrm>
            <a:off x="1971720" y="3135240"/>
            <a:ext cx="11160" cy="800280"/>
          </a:xfrm>
          <a:prstGeom prst="rect">
            <a:avLst/>
          </a:prstGeom>
          <a:ln w="0">
            <a:noFill/>
          </a:ln>
        </p:spPr>
      </p:pic>
      <p:pic>
        <p:nvPicPr>
          <p:cNvPr id="8" name="pixel" descr=""/>
          <p:cNvPicPr/>
          <p:nvPr/>
        </p:nvPicPr>
        <p:blipFill>
          <a:blip r:embed="rId6"/>
          <a:stretch/>
        </p:blipFill>
        <p:spPr>
          <a:xfrm>
            <a:off x="5108400" y="2968560"/>
            <a:ext cx="11160" cy="25092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380880" y="6172200"/>
            <a:ext cx="838440" cy="456840"/>
            <a:chOff x="380880" y="6172200"/>
            <a:chExt cx="838440" cy="456840"/>
          </a:xfrm>
        </p:grpSpPr>
        <p:sp>
          <p:nvSpPr>
            <p:cNvPr id="10" name=""/>
            <p:cNvSpPr/>
            <p:nvPr/>
          </p:nvSpPr>
          <p:spPr>
            <a:xfrm>
              <a:off x="380880" y="6172200"/>
              <a:ext cx="838440" cy="45684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0880" y="6172200"/>
              <a:ext cx="838440" cy="45684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54152e"/>
                  </a:solidFill>
                  <a:uFillTx/>
                  <a:latin typeface="Arial"/>
                  <a:ea typeface="Arial"/>
                  <a:hlinkClick r:id="rId7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logo" descr="Intel®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6248520"/>
            <a:ext cx="69696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2317680" y="48006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sum Chow Mahesh B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54152e"/>
                </a:solidFill>
                <a:uFillTx/>
                <a:latin typeface="Arial"/>
                <a:hlinkClick r:id="rId3"/>
              </a:rPr>
              <a:t>Kingsum.chow@intel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hesh.bhat@inte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59640" y="5927760"/>
            <a:ext cx="1050840" cy="625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xlstat.com/" TargetMode="External"/><Relationship Id="rId2" Type="http://schemas.openxmlformats.org/officeDocument/2006/relationships/hyperlink" Target="http://www.insightful.com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hods for Web Application Performance Prediction and Capacity Plan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 Simple Performance Modeling Method – A 4-step Proces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steps in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tegoriz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ign of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struct a performance model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alidate the mo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1. Categorize request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end user requests are supported by the web ap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kinds of requests for the next step – design of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2. Design of experiment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a search space of (V1, .., Vn) variables, how do we design the experiments to compute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f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runs into two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t – to compute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set – to check for the accuracy of the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3. Construct a performance model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linear model is clearly not wor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multivariate linear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for a goo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s of validatio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odel doesn’t look good, you may have missed some variables, or the data is not sufficient or the model is not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4. Validate the model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the model by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rrors of prediction from validation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have 10-30% margin of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pplying the Method to a Web Application Server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 is to predict the response time for a typical web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 is widely used technology for developing web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 WebLogic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orkload Requirement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workload that 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real-worl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enough to capture intra-, extra-, and inter-company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p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info (session RASY0107 TITLE: ECperf Performance and Scalability on BEA WebLogic 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hat is ECperf?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p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manufacturing, supply chain management and order/inventory busines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x7,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J2E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Cperf Workload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82960" y="2054160"/>
            <a:ext cx="4952880" cy="3230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43560" y="1368360"/>
            <a:ext cx="123228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37004"/>
              <a:gd name="adj5" fmla="val 407805"/>
              <a:gd name="adj6" fmla="val 137555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New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10720" y="1444680"/>
            <a:ext cx="203400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-12712"/>
              <a:gd name="adj5" fmla="val 368763"/>
              <a:gd name="adj6" fmla="val -21726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sSufficient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21040" y="1749600"/>
            <a:ext cx="1909800" cy="28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62" y="8406"/>
                </a:moveTo>
                <a:lnTo>
                  <a:pt x="-2065" y="8406"/>
                </a:lnTo>
                <a:lnTo>
                  <a:pt x="-2065" y="88969"/>
                </a:lnTo>
                <a:lnTo>
                  <a:pt x="6713" y="103539"/>
                </a:lnTo>
              </a:path>
            </a:pathLst>
          </a:cu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CreateLarge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94400" y="4721400"/>
            <a:ext cx="210240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14467"/>
              <a:gd name="adj5" fmla="val -265490"/>
              <a:gd name="adj6" fmla="val 124856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cheduleWork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27560" y="5102280"/>
            <a:ext cx="1761120" cy="52128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131328"/>
              <a:gd name="adj5" fmla="val -203930"/>
              <a:gd name="adj6" fmla="val 225504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AddComponent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34480" y="5311800"/>
            <a:ext cx="112248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09546"/>
              <a:gd name="adj5" fmla="val -340175"/>
              <a:gd name="adj6" fmla="val 205319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Send 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67320" y="4264200"/>
            <a:ext cx="123372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-50064"/>
              <a:gd name="adj5" fmla="val -76574"/>
              <a:gd name="adj6" fmla="val -92444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Deliver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37640" y="3273480"/>
            <a:ext cx="178380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-61634"/>
              <a:gd name="adj5" fmla="val 121912"/>
              <a:gd name="adj6" fmla="val -116564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 Update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36560" y="2892600"/>
            <a:ext cx="1393920" cy="285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-114222"/>
              <a:gd name="adj5" fmla="val 136648"/>
              <a:gd name="adj6" fmla="val -217657"/>
            </a:avLst>
          </a:prstGeom>
          <a:noFill/>
          <a:ln w="93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 Fulfill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Cperf Hardware Configuration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94080" y="1219320"/>
            <a:ext cx="3961080" cy="2985840"/>
          </a:xfrm>
          <a:prstGeom prst="rect">
            <a:avLst/>
          </a:prstGeom>
          <a:solidFill>
            <a:srgbClr val="d5ea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13120" y="5540400"/>
            <a:ext cx="1233360" cy="72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01920" y="5600880"/>
            <a:ext cx="509400" cy="331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49520" y="5989680"/>
            <a:ext cx="18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6480" y="593244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64000" y="3094200"/>
            <a:ext cx="0" cy="283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13120" y="5932440"/>
            <a:ext cx="168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upplier Emu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67480" y="1349280"/>
            <a:ext cx="1622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tabase ser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P P3XP or 4P IT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9240" y="1284120"/>
            <a:ext cx="1882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d-Tier Ser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4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” mid-tier 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6320" y="2143080"/>
            <a:ext cx="1195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4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”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4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83440" y="3314880"/>
            <a:ext cx="291960" cy="4032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13760" y="3368520"/>
            <a:ext cx="291960" cy="40356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3433680"/>
            <a:ext cx="292320" cy="4050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74040" y="3500280"/>
            <a:ext cx="291960" cy="40356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2520" y="1873080"/>
            <a:ext cx="868320" cy="12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87600" y="1890720"/>
            <a:ext cx="78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Datab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2479680"/>
            <a:ext cx="552600" cy="527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7281720" y="2987280"/>
            <a:ext cx="0" cy="32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54360" y="1940040"/>
            <a:ext cx="1168560" cy="1803240"/>
            <a:chOff x="4554360" y="1940040"/>
            <a:chExt cx="1168560" cy="1803240"/>
          </a:xfrm>
        </p:grpSpPr>
        <p:sp>
          <p:nvSpPr>
            <p:cNvPr id="157" name=""/>
            <p:cNvSpPr/>
            <p:nvPr/>
          </p:nvSpPr>
          <p:spPr>
            <a:xfrm>
              <a:off x="4554360" y="1940040"/>
              <a:ext cx="1168560" cy="1803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684320" y="2499120"/>
              <a:ext cx="908640" cy="303840"/>
              <a:chOff x="4684320" y="2499120"/>
              <a:chExt cx="908640" cy="303840"/>
            </a:xfrm>
          </p:grpSpPr>
          <p:sp>
            <p:nvSpPr>
              <p:cNvPr id="159" name=""/>
              <p:cNvSpPr/>
              <p:nvPr/>
            </p:nvSpPr>
            <p:spPr>
              <a:xfrm>
                <a:off x="4684320" y="2667600"/>
                <a:ext cx="90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8720" y="2499120"/>
                <a:ext cx="563760" cy="303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" name=""/>
            <p:cNvSpPr/>
            <p:nvPr/>
          </p:nvSpPr>
          <p:spPr>
            <a:xfrm>
              <a:off x="4684320" y="267228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684320" y="2803320"/>
              <a:ext cx="908640" cy="303840"/>
              <a:chOff x="4684320" y="2803320"/>
              <a:chExt cx="908640" cy="303840"/>
            </a:xfrm>
          </p:grpSpPr>
          <p:sp>
            <p:nvSpPr>
              <p:cNvPr id="163" name=""/>
              <p:cNvSpPr/>
              <p:nvPr/>
            </p:nvSpPr>
            <p:spPr>
              <a:xfrm>
                <a:off x="4684320" y="2971800"/>
                <a:ext cx="90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8720" y="2803320"/>
                <a:ext cx="563760" cy="303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"/>
            <p:cNvGrpSpPr/>
            <p:nvPr/>
          </p:nvGrpSpPr>
          <p:grpSpPr>
            <a:xfrm>
              <a:off x="4684320" y="3102120"/>
              <a:ext cx="908640" cy="303840"/>
              <a:chOff x="4684320" y="3102120"/>
              <a:chExt cx="908640" cy="303840"/>
            </a:xfrm>
          </p:grpSpPr>
          <p:sp>
            <p:nvSpPr>
              <p:cNvPr id="166" name=""/>
              <p:cNvSpPr/>
              <p:nvPr/>
            </p:nvSpPr>
            <p:spPr>
              <a:xfrm>
                <a:off x="4684320" y="3270600"/>
                <a:ext cx="90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8720" y="3102120"/>
                <a:ext cx="563760" cy="303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4684320" y="3388680"/>
              <a:ext cx="908640" cy="303840"/>
              <a:chOff x="4684320" y="3388680"/>
              <a:chExt cx="908640" cy="30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4684320" y="3557160"/>
                <a:ext cx="90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78720" y="3388680"/>
                <a:ext cx="563760" cy="303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"/>
            <p:cNvSpPr/>
            <p:nvPr/>
          </p:nvSpPr>
          <p:spPr>
            <a:xfrm>
              <a:off x="5592960" y="2666880"/>
              <a:ext cx="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397400" y="2004840"/>
            <a:ext cx="1390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App. Server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EJB Contai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909880"/>
            <a:ext cx="709560" cy="4874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l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79760" y="3119400"/>
            <a:ext cx="30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05560" y="2813040"/>
            <a:ext cx="146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013120" y="1833480"/>
            <a:ext cx="1233360" cy="2095560"/>
            <a:chOff x="2013120" y="1833480"/>
            <a:chExt cx="1233360" cy="2095560"/>
          </a:xfrm>
        </p:grpSpPr>
        <p:sp>
          <p:nvSpPr>
            <p:cNvPr id="177" name=""/>
            <p:cNvSpPr/>
            <p:nvPr/>
          </p:nvSpPr>
          <p:spPr>
            <a:xfrm>
              <a:off x="2013120" y="1833480"/>
              <a:ext cx="1233360" cy="209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4480" y="1855440"/>
              <a:ext cx="7549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mul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lient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046320" y="2815920"/>
              <a:ext cx="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201760" y="2554200"/>
              <a:ext cx="844560" cy="698040"/>
              <a:chOff x="2201760" y="2554200"/>
              <a:chExt cx="844560" cy="6980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2201760" y="2815920"/>
                <a:ext cx="84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19560" y="2821320"/>
                <a:ext cx="1839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2374920" y="2554200"/>
                <a:ext cx="509760" cy="554760"/>
                <a:chOff x="2374920" y="2554200"/>
                <a:chExt cx="509760" cy="55476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374920" y="2554200"/>
                  <a:ext cx="509760" cy="33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511360" y="2870640"/>
                  <a:ext cx="183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2197080" y="3186000"/>
              <a:ext cx="843120" cy="555120"/>
              <a:chOff x="2197080" y="3186000"/>
              <a:chExt cx="843120" cy="55512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2197080" y="3387960"/>
                <a:ext cx="84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42880" y="3186000"/>
                <a:ext cx="509040" cy="555120"/>
                <a:chOff x="2342880" y="3186000"/>
                <a:chExt cx="509040" cy="555120"/>
              </a:xfrm>
            </p:grpSpPr>
            <p:pic>
              <p:nvPicPr>
                <p:cNvPr id="1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342880" y="3186000"/>
                  <a:ext cx="509040" cy="33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>
                  <a:off x="2478960" y="3502440"/>
                  <a:ext cx="183600" cy="23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 flipV="1">
              <a:off x="2198520" y="282528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62160" y="3114720"/>
            <a:ext cx="5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Capacity Plann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ponse Time Predic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Performance Model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the Method to a WebLogic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ther Methods with the Simple Performa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ECperf Characteristic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realistic mid-tier to back-en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well-defined scaling and ru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es EJB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of Transaction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pplying the Simple Performance Model to an Application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ow following the 4 steps using a Web Applicati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 Categoriz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. Design of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3. Construct a performance model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4. Validate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1. Categorize request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kinds of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ders (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rders (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tatus (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tatus (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kind of request plays a factor in the performa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2. Design of experiment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 model at high loa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one request each. (4 ru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of each pair of requests. (6 ru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% of each request but keeping others the same. (4 ru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of each factor (1 r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uns, arbitrary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Response Time (R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se Time (R9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2. Data se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1536840"/>
            <a:ext cx="7772400" cy="3657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09680" y="23623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ain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41972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lida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8862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2. Data set statistic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response time for new orders (RANO) ranges from 0 to 0.54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response time for new orders (R9NO) ranges from 0 to 1.4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simple model that is pretty good in predicting these response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3. Construct simple model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candidates for a simp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ariate Linear (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=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ariate Non-Linear (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=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8c76fa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 Interactions Linear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=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 Interactions Non-Linear (M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=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 + a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8c76fa"/>
                </a:solidFill>
                <a:latin typeface="Arial"/>
              </a:rPr>
              <a:t>*X</a:t>
            </a:r>
            <a:r>
              <a:rPr b="1" lang="en-US" sz="2000" spc="-1" strike="noStrike" baseline="-25000">
                <a:solidFill>
                  <a:srgbClr val="8c76fa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8c76fa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3. Evaluate method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model candidates, each is computed using the training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is then used to predict the responses for the validation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differences between predicted values and true values for the validation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dels would have small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4. Validate average respons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dels except “univariate linear” gave good predictions for average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ding the “univariate linear” model, errors of prediction is 0.07 seconds or less and 13% or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168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4. Validate 90% respons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dels except “univariate linear” gave good predictions for 90%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ding the “univariate linear” model, errors of prediction is 0.22 seconds or less and 14% or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62485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cop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s presentation is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performance model that can help capacity planning for Web application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the simple performance model on a J2EE application server (BEA WebLogic Serv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s presentation is NOT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statistic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Key Learning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ariate linear model is insu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with non-linear, multivariate, and interactions all help the modeling significantly by reducing the errors from about 40% to about 1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model may vary with the worklo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simple models can have good predictive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planning can make use of a performance model simple multivariate linear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model is easy to use while keeping the number of experiment runs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rgin of errors could be acceptable despite using a simple model and small number of r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George E. P. Box, William Hunter and J. Stuart Hunter, “Statistics for Experimenters An Introduction to Design, Data Analysis and Model Building”, John Wiley &amp; Sons, 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Sam Kash Kachigan, “Multivariate Statistical Analysis A Conceptual Introduction”, 2nd edition, Radius Press, New York, 198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Daniel A. Menasce and Virgilio A. F. Almeida, “Capacity Planning for Web Services”, Prentice Hall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] Douglas C. Montgomery, “Design and Analysis of Experiments”, John Wiley &amp; Sons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se statistic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Excel Analysis Toolpak (www.microsof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stat (</a:t>
            </a:r>
            <a:r>
              <a:rPr b="0" lang="en-US" sz="2400" spc="-1" strike="noStrike" u="sng">
                <a:solidFill>
                  <a:srgbClr val="54152e"/>
                </a:solidFill>
                <a:uFillTx/>
                <a:latin typeface="Arial"/>
                <a:hlinkClick r:id="rId1"/>
              </a:rPr>
              <a:t>www.xlsta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tools with extensiv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us (</a:t>
            </a:r>
            <a:r>
              <a:rPr b="0" lang="en-US" sz="2400" spc="-1" strike="noStrike" u="sng">
                <a:solidFill>
                  <a:srgbClr val="54152e"/>
                </a:solidFill>
                <a:uFillTx/>
                <a:latin typeface="Arial"/>
                <a:hlinkClick r:id="rId2"/>
              </a:rPr>
              <a:t>www.insightful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at (www.sps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may abandon a website if the response is longer than X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values for X are 2, 4 and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formance model for user response time prediction would be 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when the predicted response time is longer tha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 Web Capacity Planning Problem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to increase capacity when the response time exceeds a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that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 simply track the number of reque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ponse time predictio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 fairly good performance model that can help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velopers can use this method to help assess the fine tune the performance and capacity of their systems on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sponse Time Prediction Problem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believed by a few people that the response time for a Web Application Server is simply a function of the number of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even if the number of requests are the same, the response time still can vary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sponse Time Prediction Problem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979560"/>
          <a:ext cx="6400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79560"/>
                    <a:ext cx="6400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sponse Time Prediction Problem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is there are many different kinds of requests that may go into a web application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luding these different kinds of requests, we should be able to have a better predic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 Simple Performance Model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5368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sonable performance model has 10-30% margin of error 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loads, the response time may or may not be good depending on the kinds of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scribe a simple performance model that gives good response time prediction at high ut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takes into account different kinds of web requests, thus enables us to develop a more accurate model to predict the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7:13:21Z</dcterms:created>
  <dc:creator>wlh</dc:creator>
  <dc:description/>
  <dc:language>en-US</dc:language>
  <cp:lastModifiedBy>Leslie Jones</cp:lastModifiedBy>
  <cp:lastPrinted>1904-01-01T00:00:00Z</cp:lastPrinted>
  <dcterms:modified xsi:type="dcterms:W3CDTF">2002-03-05T19:56:11Z</dcterms:modified>
  <cp:revision>38</cp:revision>
  <dc:subject/>
  <dc:title>Presentation Title  Goes Here</dc:title>
</cp:coreProperties>
</file>