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37388" cy="9302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6C2-F99F-4166-89B3-DBF56A46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51C-F4DB-4073-AE67-6E4CB278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C4B-A557-42B8-A06C-9701AAC2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FC5-3924-4ED1-BD00-F6A1BADC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F47-1ED2-4B36-83A7-C6BF3F50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502-8F36-4FB6-A8F2-CFFBCC50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2A33-6B77-4F1C-BB41-051E28B7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D92-0A7A-4A82-A4EF-FBF0548D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746-E62B-42E0-90B7-0CC17321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3D1-658C-462F-8A10-995FE13C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301-3317-449C-A85C-744E3422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A43-BB09-4C83-A6C0-18B2E410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F358-4365-418E-B0EA-A3666A0A26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46DB-A0F7-4A11-A9FC-9376B70F4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-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tool for management of irregular, sparse, and ad-hoc experiment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5AA-F956-4A77-B5CA-3B94E6E6B6D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4372F-F677-45B0-8111-1921179BE2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nym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zillions of scripts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ime I run a new experiment, I write more script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 mockery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’re all in the same bo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09B-72F6-4006-B3C7-23628C75B5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10A4D-7A4E-45A2-B5D2-999FDD68AD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Analysis of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generic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s to convert idiosyncratic file formats output by simulators to the generic file form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not output direct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names placed i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-hoc queries at command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analy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e, average, etc: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arison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B08-8F0E-470D-BA3F-8FAD842DF0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F7898-4AE6-43B7-A83B-DBBF453D61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ide: Comparing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38080" y="2819520"/>
          <a:ext cx="7010640" cy="222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01064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838080" y="5486400"/>
            <a:ext cx="7467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few databases support OUTER J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78D-2382-4147-A3D6-0BC1AFD7FB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F752A-8998-4731-97F0-D558BEDE15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a Commercial R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bu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48520" indent="-194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 at UW, but limited fil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formats proprie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48520" indent="-194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years from now, you won’t be able to read the database, unless you have dumped it to text files or installed every software update si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admin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48520" indent="-194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your own backup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do not support the parts of SQL most needed, e.g. FULL OUTER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4BC-FCF5-4BFE-A525-73EA8233AA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81161-4F32-4F80-8BAF-A553A435C1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DBMS exper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uld 1987, Motorola 1988, Intel 19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keley ING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BMS useful in “production mod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similar experi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 much trouble in “investigative mod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89D6-E4B5-4531-8387-B0A931BA89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43E32-C198-4658-858C-CC1D6C248A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gest Problem with RDB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al data is sparse and ir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time you do a new stud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dd new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BMS usually require fixed number and format of columns defined in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ing hard: ALTER TABLE often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6C7-6D30-4E0D-9C2D-FB4615C2BF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837A2-4044-47EC-896F-34E28654B3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regular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chmark =&gt; ‘go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=&gt; ‘1998 May 12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or =&gt; ‘sim-bpred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:mispredicts =&gt; 18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:widget1 =&gt; 8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chmark =&gt; ‘go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=&gt; ‘1998 May 12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or =&gt; ‘sim-outorder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:mispredicts =&gt; 18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red:widget2 =&gt; 65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c =&gt; 1.8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7242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compare all fields present in both tables (JOIN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fields present in all tupl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ver time new measurements added, old dele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SQL: some NULL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010-7D1F-473E-B5E7-4FF2FC1458D2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9F20F-F023-4A12-B32D-11F607A944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ten in Pe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X command line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JOIN sup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ASCII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describing formats: MNT, S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text database formats: CSV, TS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 that guesses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4362-2E0C-4F77-82AE-B5A30E446072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5B35C-013A-451E-A393-5B7CE10720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Forma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 Named Tuples (MN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ench =&gt; ‘go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ate =&gt; ‘1998 Feb 1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pc =&gt; 1.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ench =&gt; ‘gcc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put =&gt; ‘ccp.i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l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D: support arbitrary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ly easy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flexible form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E0C-FAD8-4E16-A46A-57568EC6504F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5D14F-F0E5-467C-974A-06769A178E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Forma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line Named Tuples (SN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ench =&gt; ‘go’, date =&gt;‘1998 Feb 1’, ipc =&gt; 1.2, ... 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ench =&gt; ‘gcc’, input =&gt; ‘ccp.i’,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.. },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3733560"/>
            <a:ext cx="7620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l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read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5D5-62C2-4179-969E-585229430364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55B93-5946-4079-901E-448D07D3D9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heard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my latest experimental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ri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don’t make sen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you fixed the bug in you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C7F-902A-41DB-B8C8-E69EBC92B2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58CA0-1C2E-4242-9419-5E16578D56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Forma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line Delimited Records (SD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layer,Years,Points,Rebounds,Assists,Champ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arry Bird,12,28,10,7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ichael Jordan,10,33,6,5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agic Johnson,12,22,7,1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John Stockton,10,16,3,1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Karl Malone,10,25,11,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259056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flex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ecords have sam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read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95288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database formats are insta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TSV (Tab Separated Variabl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V (Comma Separated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540-BF77-4ED0-A136-FB9C0AC4264C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5EE8C-FACF-41B4-9B2B-E4CEFAF3EC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ipc, cache_miss_rat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“simplescalar.outpu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benchmark, instructions/cyc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“results.db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524-0B65-4B6A-9D9E-AAD0CFBD128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C8AE6-5A0C-4C24-9B26-2DF90C4730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Player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ars/AVERAGE(Years) AS “Longevity”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“nba.db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ssists &gt;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ddres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1.samples AS count1, t2.samples AS count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“profile1.db” AS t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OUTER JOIN “profile2.db” AS t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1.address = t2.address AS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691-43D1-4B26-8A4A-476354841D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1C598-6E51-416E-9706-32A05FC301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... FROM table WHERE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... FROM table JOIN table ON ..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... WHERE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D: UPDATE, ALTER TABLE, INS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775-0350-4495-9380-BE7AB1B1B3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AA7AA-A9C7-44CE-BC21-D53169F521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: SQL and 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aggregate functions +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non-aggregate fun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eval’ed in 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BD: allow linked in libraries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BD: the eval approach is potentially in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923-ADDA-4AE5-9D86-4E7DB7A47D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1C5A2-73D8-48D4-84F4-C18D58D602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Aggregat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(*) - all tuples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(expr) - all tuples where expr is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G, ARITHMETIC_MEA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_MEAN, GEOMETRIC_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DD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,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49B0-F820-461C-96EB-72B4662FC0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01523-9C80-4717-B954-B064CF157F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 Functions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area where Perl-SQL supports SQL more fully than many commercial data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89 and 92: aggregate functions cannot be mixed with non-aggreg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legal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SELECT AVG(x), MAX(x) FRO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illegal: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ELECT x, x/AVG(x), x/MAX(x) FRO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such mixing is highly desirable for data analy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 SQL supports (as will future SQ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771-5688-48ED-8ACE-C110B062C44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B7F46-4377-4BBE-AEBB-48882DDCF2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ally all those of Per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- * / ** &amp;&amp; || xor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ource modifying operator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+, --, +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: Perl numbers and string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comparisons: eq, 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eric: ==, &lt;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decided: string concatenation, SQL || or Perl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F92-C1CD-45B3-8A22-CF827ACE3C9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2E433-25D3-4F6C-8A08-95061A90E4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hand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 handling stricter than Per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e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ually propagat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f + 8 = und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(A+B) = SUM(A) + SUM(B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’s extra operators conveni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1.address||0) is t1.addres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0 if un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AF6-63DC-42BC-A739-268BCECEC4B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C56A9-D1B3-4E4A-AE27-5958AA7A01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l SQL lim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SQL sub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sting of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... FROM (SELECT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ed equi-join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query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ansactions, concurrency control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C9D8-F718-4896-8C38-866EC60F41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6CC6B-30D5-43AF-9181-A393D96988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’ve don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 written: perl-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s “databases” in ordinary text fi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veral forma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s queries such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benchmark, time/MAX(time) as reltime FROM “experiment.result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benchmark_type =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my life easier. What about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6EC-4E2A-43B3-99F7-67E50E494F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5E80C-B906-47E2-92C4-A0DD8411CB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gnu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lotting tools allow filter commands to be invo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gnuplot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ot '&lt;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./perl-sql -format csv select Years, Points from \"test.db\"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to (from gnuplot help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gnuplot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ot '&lt;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wk "$0 !~ /^#/ {print $1-1965, $2}" population.d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: do you like saying ‘$0’ and ‘$1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400-C018-496B-ACDB-80BDB629080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5E741-AA9F-401A-8873-69FD8496DE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irregular, sparse,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s, ASCII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NULL handling via 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proper database will provide similar support for nulls, irregular databases, and ease of use and man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555-49B4-4970-B783-FB2E9CE53FC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62779-2E8B-42DB-8871-FA9A1B9FA7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little as possibl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s needed for m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s on unsorted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 per file, file lists as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es and arrays as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A90-5D47-484F-991A-EA77EB1CAC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D5DD7-FA3A-4341-9EB6-D9F40FA50B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Datastructur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/../perl-sql 'select * from "test-complex.db" as t1 FULL OUTER JOIN "test-complex2.db" as t2 ON t1.key == t2.ke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t1.a' =&gt;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{ab =&gt; 1,ac =&gt; 2,ad =&gt; 3}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't1.b' =&gt; 23, 't1.c' =&gt;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[1,2,3]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't1.key' =&gt; 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t2.a' =&gt; 'hello', 't2.c' =&gt;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[1,2,3]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't2.key' =&gt; 1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t1.a' =&gt; 4, 't1.b' =&gt; </a:t>
            </a: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['b1','b2']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't1.key' =&gt; 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t2.a' =&gt; 'null tests', 't2.key' =&gt; 3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290-48B9-4389-9E4F-A7567342ED4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EAF34-AB02-432B-AC14-2D9AFB20A8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Data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 whose values are named tuples (Perl hashes) or arrays jus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using Perl ev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few queries defined on th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QL object relational syntax uncl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D: nested queries and casting operations will result in first class nested data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DCE-63CB-4817-90BD-D6448A2F06D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E0F36-37B7-4667-B738-D7CFEC2ACF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Datastructur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you c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 data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ty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al data is naturally structu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ed starting work on Perl SQL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no commercial database handles thi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A96-0A50-4B9A-AAFF-9000ECB284F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D15EE-7CED-4CC0-8282-5FBE1D5AA8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get Perl SQL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y Glew, glew@cs.wisc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cleaning up (paths, etc.) to put in /unsup and writing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plans: part of C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4A0-B990-4BEF-9FB4-6519F05965D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15FB4-EA90-4C20-8458-D0830E7C98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Freeware Data Manage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ite (Perl-SQL superce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QL: fragile, written in Bourne 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B: no OUTER JOIN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NU SQL: fixed format, no OUTER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SQL, MiniSQL, PostGR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MOD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aw nothi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BDC-90A7-42B5-821C-2EA72B20F0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CAFA6-7909-4D58-8690-9EEDAFB32A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 did 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red of 15 years of writing AWK &amp; Perl scripts to extract and manipulat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 many different scri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s hard to mai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flexible handling of missing data (NULL handling routi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to spend more time looking at result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less time writing scripts to look at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A78-950B-44A5-BFF8-D521B2E149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7374D-DBF4-4276-A124-F922940C07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 Overheard in the Hal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otiv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hat I’ve D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liver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Data Munging Scri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RDB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,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l-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s, 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ool Chain Wor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C2B-61B7-4FC1-B264-A984CE14F9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D3A81-870E-466F-A601-512D950C14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unging Scri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of the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y si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script (Perl/AWK) to collate the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not a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slaves to do the work for you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’re the sl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pay the slave a big sa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67A-E9F9-456F-A332-B1D1F69CD6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72FAD-9056-4917-B61D-730390056A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i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-hoc, written as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eneric: frequently many similar script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biefflat grabimissinst grabimissrate grabipc grabmispredinter grabmispredintra grabtefflat grabtmissrate grabtmiss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ipts typically copied from earlier script, and a few lines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s on scripts calling scripts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53D-3B41-4234-BFBF-710EAB4D5D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156A2-8B1B-4D89-A7FF-B1F1814CCD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ipts -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 to mai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ile: break when output format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gging difficul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sp. scripts calling scrip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fixes hard to propag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o multiple, similar, scrip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undocu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ing back the clock” is difficult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Reproducing results when writing disse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0DD-F580-4ADC-8B8F-FCD539628D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33CCD-1F3F-42CE-AA73-2FD322AB1F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ipts -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 missing data is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Compare ratios of all metrics that exist in two experiments (IPC, BPRED), but don’t worry about those present in one but not the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nd don’t divide by ze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 SQL / Multiscalar T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450-A965-4C59-BE8E-33961FC086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C975A-FA47-4BB8-B120-732FB7240C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8T18:20:27Z</dcterms:created>
  <dc:creator>Andy Glew</dc:creator>
  <dc:description/>
  <dc:language>en-US</dc:language>
  <cp:lastModifiedBy>Andy Glew</cp:lastModifiedBy>
  <cp:lastPrinted>1998-04-30T16:30:07Z</cp:lastPrinted>
  <dcterms:modified xsi:type="dcterms:W3CDTF">1998-04-30T16:30:57Z</dcterms:modified>
  <cp:revision>9</cp:revision>
  <dc:subject/>
  <dc:title>Perl-SQL</dc:title>
</cp:coreProperties>
</file>