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037388" cy="9302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2998-F6E6-42CC-870D-55CDB574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40B6-0549-4A36-A5C3-ECFE1013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AFAD-AF9D-459F-919C-240452203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1191-8CBA-4C2D-ACFF-DC1766FF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50A3-E572-4A7D-87E6-11B856E6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E03D-7E7B-40CD-9342-E19F9AC7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CF68-A0B6-4AE8-BCA8-8CE54454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FDC6-8C27-4339-B635-D79A06A5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B4BC-1A37-465A-9777-71551C7C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305E-CCB7-4FC5-9C08-655F10CC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B680-9B3F-46FA-A68D-DFC36D4F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3E53-3874-43D2-B0AD-107E1D25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F63F-F66D-4ADE-BA70-1834368EA61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919F-4A47-4FE6-8FBA-4AD07D0B3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l-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atabase tool for management of irregular, sparse, and ad-hoc experiment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57CD-605F-498E-B833-65AFDEE64F6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7AC54-DC0C-4A49-A16E-818D017468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nym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ave zillions of scripts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time I run a new experiment, I write more script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 mockery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’re all in the same bo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87CB-BEF2-40F7-8351-140E75F3CA9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452BB-15BE-463A-8FBC-7FFC8F2BD1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Analysis of 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generic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ers to convert idiosyncratic file formats output by simulators to the generic file form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f not output direct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names placed i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-hoc queries at command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analy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ize, average, etc: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arison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CE5A-752A-44BA-8041-EFD97320D7F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9A744-5A73-42B1-8F53-024C5C7153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ide: Comparing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database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838080" y="2819520"/>
          <a:ext cx="7010640" cy="222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19520"/>
                    <a:ext cx="7010640" cy="22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838080" y="5486400"/>
            <a:ext cx="7467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few databases support OUTER JO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1256-EEF0-416C-BD8D-5DECDC2D013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CBEF4-39A6-44E5-A3B5-1F84EBFDDC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a Commercial R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, bu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48520" indent="-19404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e at UW, but limited fil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formats proprie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48520" indent="-19404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years from now, you won’t be able to read the database, unless you have dumped it to text files or installed every software update si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admin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48520" indent="-19404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your own backup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do not support the parts of SQL most needed, e.g. FULL OUTER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3AC7-34D2-456B-9A64-2AADDBB3F8F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3F702-EB6C-4CA4-9129-436061CB31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DBMS experi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uld 1987, Motorola 1988, Intel 19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keley ING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DBMS useful in “production mode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ts of similar experi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 much trouble in “investigative mod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3D4-70F6-46DE-9427-0A1A418F81F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BB118-5E68-48E6-98FA-086FF2633B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gest Problem with R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mental data is sparse and ir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time you do a new study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dd new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DBMS usually require fixed number and format of columns defined in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ing hard: ALTER TABLE often s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51F5-DA4A-4B31-879C-3E7D3EB9EA5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11947-A039-490B-9819-4DCEAE8440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regular Form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chmark =&gt; ‘go’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 =&gt; ‘1998 May 12’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or =&gt; ‘sim-bpred’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red:mispredicts =&gt; 189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red:widget1 =&gt; 89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chmark =&gt; ‘go’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 =&gt; ‘1998 May 12’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or =&gt; ‘sim-outorder’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red:mispredicts =&gt; 189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red:widget2 =&gt; 65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c =&gt; 1.8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472428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o compare all fields present in both tables (JOIN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fields present in all tupl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Over time new measurements added, old delet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SQL: some NULL sup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B3A3-0B18-4549-98A1-17F95CB1DFC9}" type="slidenum">
              <a:t>1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5C40C-F427-44D4-9631-D71F571886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l SQL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ten in Pe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X command line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JOIN sup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ASCII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describing formats: MNT, S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text database formats: CSV, TS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uristic that guesses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1268-ECBA-4020-B6CE-4CAA293633F2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D9E1A-F02F-4785-A1AB-EF58CBABDC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 Forma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 Named Tuples (MN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ench =&gt; ‘go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date =&gt; ‘1998 Feb 1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ipc =&gt; 1.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ench =&gt; ‘gcc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input =&gt; ‘ccp.i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l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BD: support arbitrary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rly easy to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flexible form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19D7-323F-4D43-AC2E-A5F414C1D8D0}" type="slidenum">
              <a:t>1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E0382-BC91-4BBE-B69B-3E15FC725E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 Forma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line Named Tuples (SN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ench =&gt; ‘go’, date =&gt;‘1998 Feb 1’, ipc =&gt; 1.2, ... 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ench =&gt; ‘gcc’, input =&gt; ‘ccp.i’,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.. },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7720" y="3733560"/>
            <a:ext cx="76201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l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co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read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B050-DA07-4330-B222-BFE43BED94B1}" type="slidenum">
              <a:t>1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AEF2D-3493-4DEB-8122-D7580BCA7E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heard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are my latest experimental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ri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don’t make sen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you fixed the bug in your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cri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EADA-6B40-4D0F-B1B8-DAC96F6A916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02B5A-85D5-4AF9-9495-DA01EE56B6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 Forma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line Delimited Records (SDR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Player,Years,Points,Rebounds,Assists,Champ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Larry Bird,12,28,10,7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Michael Jordan,10,33,6,5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Magic Johnson,12,22,7,1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John Stockton,10,16,3,13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Karl Malone,10,25,11,3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7960" y="259056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flex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ecords have sam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read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952880"/>
            <a:ext cx="7848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on database formats are instan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TSV (Tab Separated Variable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V (Comma Separated Vari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4E34-27EE-4345-A033-F83F51F26CA5}" type="slidenum">
              <a:t>2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703E1-23A6-4F7F-91AF-0D24D09BBD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l SQL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ipc, cache_miss_rat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“simplescalar.outpu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benchmark, instructions/cyc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“results.db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8DBC-5DA2-44F4-9D08-AC7CD32F455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ACD7B-E337-494A-B984-D571C12A8C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l SQL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Player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ars/AVERAGE(Years) AS “Longevity”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“nba.db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Assists &gt;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addres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1.samples AS count1, t2.samples AS count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“profile1.db” AS t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OUTER JOIN “profile2.db” AS t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1.address = t2.address AS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9CEA-F256-4ECC-B7F0-BA58E2E75C1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F7CB0-3F5F-4DDC-9F14-2DF515FBCA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l SQ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... FROM table WHERE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... FROM table JOIN table ON ..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 ... WHERE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D: UPDATE, ALTER TABLE, INS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3923-05EA-4124-A66A-62ED1F832F7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859DC-FDDF-4554-A8B0-01BE093545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ors: SQL and 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aggregate functions +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non-aggregate func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eval’ed in 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BD: allow linked in libraries of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BD: the eval approach is potentially insec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C5AD-6388-4D17-A7E2-88F8A49555D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49E3F-FABC-4C8B-B9A7-0F61060BE6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l SQL Aggregat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(*) - all tuples s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(expr) - all tuples where expr is def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G, ARITHMETIC_MEA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MONIC_MEAN, GEOMETRIC_M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DDE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, 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5638-CF59-4621-B449-43E710D83F3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D41BA-8FD9-4EBB-8464-B88285ADE5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 Functions Ex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area where Perl-SQL supports SQL more fully than many commercial data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89 and 92: aggregate functions cannot be mixed with non-aggreg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legal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SELECT AVG(x), MAX(x) FRO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illegal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SELECT x, x/AVG(x), x/MAX(x) FRO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such mixing is highly desirable for data analy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l SQL supports (as will future SQ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0242-170E-4DF4-BC68-22D0D1690D6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11AB2-3FB3-46B5-8771-DBBCB2EE02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l SQL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ally all those of Perl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- * / ** &amp;&amp; || xor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ource modifying operator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+, --, +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: Perl numbers and string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comparisons: eq, 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eric: ==, &lt;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ndecided: string concatenation, SQL || or Perl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A752-E509-40BD-894E-EE61D2A0239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8CEED-B5D6-4AE9-BA6B-38EE641265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hand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 handling stricter than Per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e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ually propagate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f + 8 = und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(A+B) = SUM(A) + SUM(B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ike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l’s extra operators conveni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1.address||0) is t1.addres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0 if undef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C5E4-1EC5-433D-BC95-6DD661F2D26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3614A-76C6-41C1-BFB4-9F8B17480E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l SQL limi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SQL sub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esting of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... FROM (SELECT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ed equi-joins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query 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ansactions, concurrency control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C606-81BF-4B28-BBCF-14A024EE62B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F8A82-3D56-4488-A5B4-A68D6B2091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’ve don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 written: perl-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pts “databases” in ordinary text fi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veral forma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s queries such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benchmark, time/MAX(time) as reltime FROM “experiment.result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benchmark_type =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my life easier. What about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2A79-C1CC-4EF0-8949-7C31B893FC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DED0A-0E25-401A-AB5B-CD7A573629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gnupl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plotting tools allow filter commands to be invok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gnuplot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ot '&lt;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../perl-sql -format csv select Years, Points from \"test.db\"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to (from gnuplot help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gnuplot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ot '&lt;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wk "$0 !~ /^#/ {print $1-1965, $2}" population.d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: do you like saying ‘$0’ and ‘$1’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3171-F1A0-4E66-8773-6FF68468CA2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523DA-7AC5-4A53-834C-75F090C5D8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irregular, sparse,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pract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ers, ASCII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NULL handling via 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p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proper database will provide similar support for nulls, irregular databases, and ease of use and manag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F9B8-2605-4207-9094-D7E4EBFB6E3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02160-C284-45D1-8218-9190022D71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little as possibl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s needed for m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ed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s on unsorted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 per file, file lists as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es and arrays as data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0900-0D14-4721-9845-D94BA0D3AD0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A2D79-5ACD-4CC3-89A5-5E8C2291F4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Datastructur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/../perl-sql 'select * from "test-complex.db" as t1 FULL OUTER JOIN "test-complex2.db" as t2 ON t1.key == t2.ke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't1.a' =&gt; 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{ab =&gt; 1,ac =&gt; 2,ad =&gt; 3}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't1.b' =&gt; 23, 't1.c' =&gt; 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[1,2,3]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't1.key' =&gt; 1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't2.a' =&gt; 'hello', 't2.c' =&gt; 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[1,2,3]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't2.key' =&gt; 1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't1.a' =&gt; 4, 't1.b' =&gt; 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['b1','b2']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't1.key' =&gt; 2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't2.a' =&gt; 'null tests', 't2.key' =&gt; 3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DE69-37F6-43DB-B316-018DEEA6502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7BAA9-FC61-4B36-BB88-47C1B5957B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Data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s whose values are named tuples (Perl hashes) or arrays just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using Perl ev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few queries defined on th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QL object relational syntax uncle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D: nested queries and casting operations will result in first class nested data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8D95-52B5-4793-87F3-66ABB63C22B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CEE34-138F-4DA0-ACF2-962525CDA2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Datastructur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you c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 data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ty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2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s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mental data is naturally structu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ed starting work on Perl SQL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no commercial database handles this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DCD4-A400-440C-B4E5-20AF080C367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90E62-F090-42EF-A5E7-CE595255DE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get Perl SQL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y Glew, glew@cs.wisc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cleaning up (paths, etc.) to put in /unsup and writing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plans: part of C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4CAD-C7F9-432A-AD65-87AD6963D70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91FF7-8F71-45DC-B4D5-C759528FD2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Freeware Data Management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ite (Perl-SQL superced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QL: fragile, written in Bourne s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DB: no OUTER JOIN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NU SQL: fixed format, no OUTER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SQL, MiniSQL, PostGR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MOD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aw nothing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DBDD-DED3-4F64-9EE4-67DA8943888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C582A-C7D0-4D00-A0F4-6708438CD1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 did 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red of 15 years of writing AWK &amp; Perl scripts to extract and manipulat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 many different scri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ipts hard to main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nt flexible handling of missing data (NULL handling routi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nt to spend more time looking at result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less time writing scripts to look at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F1B1-75AE-479D-A843-E217A74DA1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CB719-D797-45EF-AF25-6D3D913C1B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 Overheard in the Hal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otiv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What I’ve D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liver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Data Munging Scri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RDB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ence,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l-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tures, Limi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Tool Chain Work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8C3B-A655-413E-A55A-E976E82D07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0F543-0BC4-4BFD-BE6F-69ED906A81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unging Scri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of the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y sim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script (Perl/AWK) to collate the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not a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have slaves to do the work for you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’re the sl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pay the slave a big sa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FF5B-0901-4CA9-A6CF-A5CCBCD35C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7CC75-6723-430B-8BB0-FEF886C9F4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i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-hoc, written as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generic: frequently many similar script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abiefflat grabimissinst grabimissrate grabipc grabmispredinter grabmispredintra grabtefflat grabtmissrate grabtmiss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ipts typically copied from earlier script, and a few lines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ipts on scripts calling scripts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1780-49AA-4330-BAAF-1B51894C51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94D96-5114-4E92-88ED-56F3EDBF5F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ipts -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 to main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gile: break when output format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ugging difficul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sp. scripts calling scrip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fixes hard to propag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to multiple, similar, scrip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undocu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ing back the clock” is difficult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Reproducing results when writing disse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B041-2B66-451F-868E-258CDBCDA4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AA467-F5FA-4760-8FC8-E10B0E7132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ipts -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ing missing data is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Compare ratios of all metrics that exist in two experiments (IPC, BPRED), but don’t worry about those present in one but not the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nd don’t divide by zer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3572-529B-4928-8742-A5A4AFBA7C7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794A1-A05B-4165-B834-E2DB8CCB2A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8T18:20:27Z</dcterms:created>
  <dc:creator>Andy Glew</dc:creator>
  <dc:description/>
  <dc:language>en-US</dc:language>
  <cp:lastModifiedBy>Andy Glew</cp:lastModifiedBy>
  <cp:lastPrinted>1998-04-30T16:30:07Z</cp:lastPrinted>
  <dcterms:modified xsi:type="dcterms:W3CDTF">1998-04-30T16:30:57Z</dcterms:modified>
  <cp:revision>9</cp:revision>
  <dc:subject/>
  <dc:title>Perl-SQL</dc:title>
</cp:coreProperties>
</file>