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37388" cy="9302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A93-58B8-4AC4-8A9D-E9E09563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68D-6FCF-4F71-A4D9-4F1BBBAA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27E-BCCD-40E8-AFD3-E58A8CD0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BE6-CF4F-463D-A328-DAFB1DB0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177-764C-45ED-AC40-BBB20D42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7C4-A443-4318-B0F3-F0255822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608-C2EF-48F4-9D94-894B5F06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3FF-A24D-42E2-B33B-3291F166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F47-87D2-4216-8031-8D6AB0A8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671-EBBC-4C94-85AA-3EAB183F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79E-2866-4F69-A804-55EE0F2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2D4-DFCF-4360-A905-41199236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2926-CE20-43B6-A567-A2914F282B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9BA4-BA95-4DD0-B33F-505D00A63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-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tool for management of irregular, sparse, and ad-hoc experiment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691-99F3-416E-A854-419CA8A291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6B7A7-3D6F-45D4-88BB-A0E37DDB6A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zillions of scripts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ime I run a new experiment, I write more script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mockery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’re all in the same bo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183-74A7-48DC-B5FD-7A7808792A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04F4F-44A8-4F8B-B183-37B767EDFE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Analysis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generic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s to convert idiosyncratic file formats output by simulators to the generic file form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not output direct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names placed i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 queries at command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naly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, average, etc: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arison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BF6-16BE-4261-B95C-6DC653F041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B571F-6963-4797-8A35-E53C58247F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de: Comparing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2819520"/>
          <a:ext cx="7010640" cy="222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01064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838080" y="5486400"/>
            <a:ext cx="7467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few databases support OUTER 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CA7-A12E-4969-BDF9-113A5281CD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F51B4-6019-4BC7-89B5-D39ED5C9C7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a Commercial R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bu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at UW, but limited fil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formats propri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years from now, you won’t be able to read the database, unless you have dumped it to text files or installed every software update si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r own backup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do not support the parts of SQL most needed, e.g. FULL OUTER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40F-648B-40F0-8F62-AEA39730D4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A3D4C-D3D3-4E2C-9066-370E031016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DBMS exper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uld 1987, Motorola 1988, Intel 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keley ING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useful in “production mod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similar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much trouble in “investigative mod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89A-0ECC-4F66-BFA1-D6EA1406C6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9F3B4-FF4B-4EB6-A853-534B600A86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gest Problem with R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data is sparse and ir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time you do a new stud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dd new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usually require fixed number and format of columns defined in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hard: ALTER TABLE often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558-BEF0-4813-873C-F892E8A056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CE7AD-DE8D-4784-9B90-5DA15B27C8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gular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chmark =&gt; ‘go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&gt; ‘1998 May 12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or =&gt; ‘sim-bpred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mispredicts =&gt; 18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widget1 =&gt; 8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chmark =&gt; ‘go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&gt; ‘1998 May 12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or =&gt; ‘sim-outorder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mispredicts =&gt; 18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widget2 =&gt; 65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=&gt; 1.8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7242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compare all fields present in both tables (JOIN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fields present in all tup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ver time new measurements added, old dele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QL: some NULL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AB2-C017-455B-A82E-BD94DAA9DBCA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7B083-2CBF-4DDA-8D8F-FBBC6A0487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in Pe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 command line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JOIN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ASCII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describing formats: MNT, S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text database formats: CSV, T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 that guesses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93E-3686-462E-85D7-CA8F28CB940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936C5-2A70-4D0C-8DB5-E59FFEA282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orma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 Named Tuples (MN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o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ate =&gt; ‘1998 Feb 1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pc =&gt; 1.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cc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put =&gt; ‘ccp.i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D: support arbitrary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ly easy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lexible form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BF3-AB53-445A-861B-2DC54C127BF1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FA3E4-FC1C-4274-8B65-BCE2E3AA66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orma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line Named Tuples (SN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o’, date =&gt;‘1998 Feb 1’, ipc =&gt; 1.2, ...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cc’, input =&gt; ‘ccp.i’,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 },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733560"/>
            <a:ext cx="7620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rea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187-A18B-4887-9C91-4A7012EBF3BA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E09CA-3E48-4190-945C-35E29B4A9C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hear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my latest experimental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r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don’t make sen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you fixed the bug in you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519-7D7E-4FEC-9DE2-44D01222C5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78A01-872A-4A28-9FC3-977DCF1FA5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orma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line Delimited Records (SD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layer,Years,Points,Rebounds,Assists,Champ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arry Bird,12,28,10,7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ichael Jordan,10,33,6,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agic Johnson,12,22,7,1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John Stockton,10,16,3,1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Karl Malone,10,25,11,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flex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cords have sam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rea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28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database formats are insta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SV (Tab Separated Variabl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V (Comma Separated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376-AE8C-4AC8-B37C-ED29C0FF3BA3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AF762-3D94-448D-9BB8-3330754A0C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ipc, cache_miss_ra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simplescalar.outpu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benchmark, instructions/cyc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results.db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241-DD0C-4280-8219-B43F6A6F37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069CC-83B7-462A-8C0E-C8D6BA9FCB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Player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s/AVERAGE(Years) AS “Longevity”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nba.db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ssists &gt;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ddres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1.samples AS count1, t2.samples AS count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profile1.db” AS t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 “profile2.db” AS t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1.address = t2.address AS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3A3-728C-4AD9-B086-30F2E7587D5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35F33-AD88-4AAA-BB9D-8BC36ACAA2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... FROM table WHER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... FROM table JOIN table ON ..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... WHER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D: UPDATE, ALTER TABLE, IN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EAB-EC39-4DE4-89A8-CAEE59728B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51215-072C-4010-BC34-5DE2D1EC18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: SQL and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aggregate functions +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non-aggregate fun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eval’ed in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D: allow linked in libraries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D: the eval approach is potentially in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598-AD32-4B96-8E0E-07BED8A823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47424-214E-4DDE-80C7-01D2A110FF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Aggregat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*) - all tuple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expr) - all tuples where expr is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G, ARITHMETIC_ME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_MEAN, GEOMETRIC_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DD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,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7F6-A5F0-49BA-8B07-A6DEF081FC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C9386-9C4F-4B4A-89B4-7880FFAAF5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 Functions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area where Perl-SQL supports SQL more fully than many commercial 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89 and 92: aggregate functions cannot be mixed with non-aggreg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legal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SELECT AVG(x), MAX(x) FRO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illegal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ELECT x, x/AVG(x), x/MAX(x) FRO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uch mixing is highly desirable for data analy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SQL supports (as will future SQ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6E8-7874-48AF-94A3-16DEA2DCC0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CD330-D645-499A-891F-DE18A868E0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ally all those of Per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- * / ** &amp;&amp; || xor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ource modifying operator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+, --, +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: Perl numbers and string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comparisons: eq, 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eric: ==, &lt;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decided: string concatenation, SQL || or Perl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991-99D5-415B-A3DD-399783F6DB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F4624-EFF0-4288-8866-8982DD72E4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 handling stricter than Per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ually propagat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f + 8 = un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(A+B) = SUM(A) + SUM(B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’s extra operators conveni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1.address||0) is t1.addres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0 if un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95D-4231-4783-8B6F-8290DC8D24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1E711-09F5-4280-858B-AB32146768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SQL sub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sting of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... FROM (SELECT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ed equi-join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ansactions, concurrency contro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C7A-73F3-4FD3-96AC-59042402201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2F6F7-DC69-41A5-8066-A77F5BAED8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’ve don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written: perl-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s “databases” in ordinary text fi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veral form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s queries such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benchmark, time/MAX(time) as reltime FROM “experiment.result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benchmark_type =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my life easier. What about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78F-312F-4054-9A25-0C661CC834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61064-EDFA-45B3-B8D5-3A23859487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gnu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lotting tools allow filter commands to be invo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gnuplot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 '&l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./perl-sql -format csv select Years, Points from \"test.db\"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o (from gnuplot help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gnuplot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 '&l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wk "$0 !~ /^#/ {print $1-1965, $2}" population.d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do you like saying ‘$0’ and ‘$1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FF1-13FF-4463-8670-B2D07EF893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8903F-CBDD-4B37-88FA-2D3AFD82ED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irregular, sparse,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s, ASCII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NULL handling via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oper database will provide similar support for nulls, irregular databases, and ease of use and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9F2-F47E-4E8F-B31D-8C34BA5ED8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3A1A2-77F9-44A4-92D6-C129ED15C1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ittle as possibl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s needed for m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s on unsorte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 per file, file lists as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es and arrays as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F5F-AFDF-47EF-AE4D-951C6089AE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2B18F-D3A2-4203-8442-16975100CF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Datastruct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/../perl-sql 'select * from "test-complex.db" as t1 FULL OUTER JOIN "test-complex2.db" as t2 ON t1.key == t2.ke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1.a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{ab =&gt; 1,ac =&gt; 2,ad =&gt; 3}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1.b' =&gt; 23, 't1.c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[1,2,3]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1.key' =&gt; 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2.a' =&gt; 'hello', 't2.c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[1,2,3]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2.key' =&gt; 1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1.a' =&gt; 4, 't1.b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['b1','b2']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1.key' =&gt; 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2.a' =&gt; 'null tests', 't2.key' =&gt; 3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777-0253-4885-8CA4-8002E0E6B3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6F529-5A12-4083-8F1D-4FB213E8C1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Data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whose values are named tuples (Perl hashes) or arrays jus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using Perl e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ew queries defined on th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QL object relational syntax un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D: nested queries and casting operations will result in first class nested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770-7720-47B0-B545-CE1861873F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82441-0C41-4B9D-8519-988C6BFC7A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Datastructur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you c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 data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data is naturally structu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ed starting work on Perl SQL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no commercial database handles thi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5A3-30FC-406F-A780-5C85E447736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6C60B-5830-4124-A9E1-E3099E8EA6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get Perl SQ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y Glew, glew@cs.wisc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cleaning up (paths, etc.) to put in /unsup and writing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plans: part of C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3C9-B1E5-4899-ADA7-92A0218380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C646A-C57C-426F-815B-A9A7C41E92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reeware Data Manage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ite (Perl-SQL superce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QL: fragile, written in 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: no OUTER JOIN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NU SQL: fixed format, no 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QL, MiniSQL, PostGR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MOD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aw noth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EFF-59AB-4FAC-9310-903F3B67272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1A145-D90F-4B14-A6D8-130E6BAABD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 did 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red of 15 years of writing AWK &amp; Perl scripts to extract and manipula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many different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s hard to 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flexible handling of missing data (NULL handling routi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spend more time looking at result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less time writing scripts to look a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B32-A1FB-4533-A196-647C5F9A39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591D0-22E0-4A09-AD9E-7DDD88A730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 Overheard in the Ha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o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I’ve 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liver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Data Munging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RDB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,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-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,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ool Chain Wor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396-1503-41AA-A70F-D6621D8614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D42EB-6536-4DD6-B1CF-C6A00080C6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unging 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the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y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script (Perl/AWK) to collate the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t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slaves to do the work for you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’re the s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pay the slave a big sa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680-7472-4EC7-965D-FE8674B428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B5A77-6707-473D-BA8C-BC66BFE5E6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, written as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eneric: frequently many similar script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biefflat grabimissinst grabimissrate grabipc grabmispredinter grabmispredintra grabtefflat grabtmissrate grabtmiss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pts typically copied from earlier script, and a few lines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s on scripts calling script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05A-30EA-4D5C-A047-14F88560AA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7D816-E209-415F-9B16-6C7F502B60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 -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ile: break when output forma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 diffic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sp. scripts calling scrip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fixes hard to propag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o multiple, similar, scrip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un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ing back the clock” is difficult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Reproducing results when writing disse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A5F-7156-4BB0-9411-7F503EB41C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518E5-6C17-4CC9-8D52-9E1AB0DE9A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 -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missing data is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Compare ratios of all metrics that exist in two experiments (IPC, BPRED), but don’t worry about those present in one but not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d don’t divide by ze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C59-69D9-44B5-B9A4-A4E7B0374D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2B215-73D3-446C-ABF1-661B9C0EEE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8T18:20:27Z</dcterms:created>
  <dc:creator>Andy Glew</dc:creator>
  <dc:description/>
  <dc:language>en-US</dc:language>
  <cp:lastModifiedBy>Andy Glew</cp:lastModifiedBy>
  <cp:lastPrinted>1998-04-30T16:30:07Z</cp:lastPrinted>
  <dcterms:modified xsi:type="dcterms:W3CDTF">1998-04-30T16:30:57Z</dcterms:modified>
  <cp:revision>9</cp:revision>
  <dc:subject/>
  <dc:title>Perl-SQL</dc:title>
</cp:coreProperties>
</file>